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6341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4A8-C72E-4ABE-A477-8A13168E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2A3-D6BA-4F21-ADC5-E53524FD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3D6-D630-4EDA-BA57-E453C533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8D0-BD57-4EBC-AFE0-EFFFB5BD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0D25-ED94-440E-B287-4FEC5410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079E-C1DE-4F1D-9016-EE2DAFC6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A799-7A35-441C-8B6C-1658C637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444D-5463-4595-8C1C-45BC4528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3DD9-D082-47FC-9222-5124E068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85ED-5DE5-49F2-BD31-6D4C6999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3211-7A37-4505-BB7B-DAFC445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A60-405A-4F03-AFEB-22FB9168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080B-D464-48E5-9F62-164A8807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8118-60D1-4806-981C-81C9FF7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FEA7-2F11-4F5F-88C9-60FDE4BC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C319-A21F-416E-B423-E4F01DC8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E61C-BF16-417D-BB02-981F550C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14D3-4C46-4045-94FA-1D6C8DB0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8CE0-0427-4074-9C4C-820006C9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83F8-4A8A-4562-9137-C014A74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6B59-25D6-4EDD-9822-D8FD87C8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FB69-B1E3-4E39-B7A8-DA82C4C0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26A-83E7-4435-89B7-45975A8C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933F-769C-4E39-94A1-C623F92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82BC-B446-4B78-9EAB-128A7B8F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09CB-B4C0-429E-AE29-479703BD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01BF-6C0D-460E-81B1-0D6496D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6FDA-9B30-450F-B911-7366B26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1881-80FF-4FF1-967B-507EEABC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C065-FD52-425B-91A5-88D4A54A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E0BE-8865-451F-82FC-639F8ACA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94DE-95F2-4351-BF3D-0E5CDE40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81F0-9A86-4CF4-BF75-12732339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621-8187-487C-B529-1DD62AEF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23052-A881-4D36-9247-8711A009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6394-DC92-49F9-8D56-E17E2725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B969-CEBA-4EAB-A251-3409C878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B25D4-3CAC-49C8-AD4E-B89E560E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B958-F15F-4490-8B27-D18FC1DA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94E3F-2FA6-495B-885D-A081E90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AAC5-9D5A-4D44-A5A0-3C3F93A9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90E9-F62F-4304-9E39-0B74B102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08CC-4FD7-4A18-8A42-661C08B1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E7F29-1F71-499B-BDF6-D4363444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A18-FB31-4603-B32B-FA0FA972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DB73-90CC-4424-94A6-292186C3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ABE5-E66F-41B7-951C-E2FED787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AE04-670F-4242-B44E-B80F06F9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4798A-06E7-46B8-A16F-54617B46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67B3-9154-4D05-92F2-CCBF53F0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00C62-7A3F-415F-B9FF-6347E09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B269-120A-4ECF-BB0D-855D71F3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1E136-924B-4AFD-BC7C-65E4E40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5006-FCF9-41C3-9663-5C4557A4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62AEE-1E07-46BC-80A0-7B339371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B30-6FD8-4F61-8329-1DE9A17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D1564-E059-4A6C-81A3-1AD9E695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D8484-B41A-4D9F-AB59-3D4EF8DC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3B5E1-E04E-4871-BD4E-9DCBB51D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4DC1-0D6B-4DFF-BFAA-B3D1F894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9BDA-5FC6-4B5D-849D-E0B0D47F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AB37-0B1B-4EE7-8BBC-B4CAAA96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16C3E-5274-4B3F-BBE1-B60A4168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C906-7F38-486B-B33F-A1214193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6350-F2B3-4C7A-B6B0-F13BE9B4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BA27-AD90-49D0-91DF-9435CB70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8B9-FAA4-4559-8F4C-487DBCEA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72062-2810-43F3-B606-B47BB53D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15FF6-8F4E-45F9-8DF9-55F8BFFB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4E33A-51E5-4897-ABB2-4DEA645A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A98-FF45-4139-AF6C-FAB4E3A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DD6-F50C-4BB4-9269-FBC3B3B3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14A7-0F21-4188-9857-8DB1E4029F0A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Free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407D-E7A6-4E7B-8477-D525794D37EE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Free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A9D3-DE34-4C01-9CF4-E64F22FE7070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Free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A49A-A22D-4D4E-8C8E-99EB8AA55EEE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Free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8210-A4E8-4222-BDE6-BF11D8CC952D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Free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848C-CD10-4FC5-B215-65A481EFC95C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Free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3"/>
          <p:cNvSpPr/>
          <p:nvPr/>
        </p:nvSpPr>
        <p:spPr>
          <a:xfrm>
            <a:off x="1116000" y="1484280"/>
            <a:ext cx="7238880" cy="33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66"/>
                </a:solidFill>
                <a:latin typeface="FreesiaUPC"/>
              </a:rPr>
              <a:t>คู่มือการส่งผลงานเข้าประกวด</a:t>
            </a:r>
            <a:endParaRPr b="1" lang="en-US" sz="5400" spc="-1" strike="noStrike">
              <a:solidFill>
                <a:srgbClr val="000000"/>
              </a:solidFill>
              <a:latin typeface="Freesi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FreesiaUPC"/>
              </a:rPr>
              <a:t>http://www.thaiinvention.net/</a:t>
            </a:r>
            <a:endParaRPr b="1" lang="en-US" sz="5400" spc="-1" strike="noStrike">
              <a:solidFill>
                <a:srgbClr val="000000"/>
              </a:solidFill>
              <a:latin typeface="FreesiaUPC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9"/>
          <p:cNvGrpSpPr/>
          <p:nvPr/>
        </p:nvGrpSpPr>
        <p:grpSpPr>
          <a:xfrm>
            <a:off x="611280" y="392040"/>
            <a:ext cx="8011800" cy="1663920"/>
            <a:chOff x="611280" y="392040"/>
            <a:chExt cx="8011800" cy="1663920"/>
          </a:xfrm>
        </p:grpSpPr>
        <p:sp>
          <p:nvSpPr>
            <p:cNvPr id="280" name="AutoShape 8"/>
            <p:cNvSpPr/>
            <p:nvPr/>
          </p:nvSpPr>
          <p:spPr>
            <a:xfrm>
              <a:off x="611280" y="392040"/>
              <a:ext cx="801180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คลิก เลือกชื่อผลงานที่แถบสีส้ม เพื่อดำเนินการใส่ข้อมูล</a:t>
              </a: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4238280" y="1471680"/>
              <a:ext cx="884520" cy="58428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212760" y="2055960"/>
            <a:ext cx="8931240" cy="390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9"/>
          <p:cNvGrpSpPr/>
          <p:nvPr/>
        </p:nvGrpSpPr>
        <p:grpSpPr>
          <a:xfrm>
            <a:off x="611280" y="392040"/>
            <a:ext cx="8011800" cy="1663920"/>
            <a:chOff x="611280" y="392040"/>
            <a:chExt cx="8011800" cy="1663920"/>
          </a:xfrm>
        </p:grpSpPr>
        <p:sp>
          <p:nvSpPr>
            <p:cNvPr id="284" name="AutoShape 8"/>
            <p:cNvSpPr/>
            <p:nvPr/>
          </p:nvSpPr>
          <p:spPr>
            <a:xfrm>
              <a:off x="611280" y="392040"/>
              <a:ext cx="801180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กรอกรายละเอียดข้อมูล แล้ว กดปุ่ม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Angsana New"/>
                </a:rPr>
                <a:t>SAVE</a:t>
              </a: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85" name="AutoShape 7"/>
            <p:cNvSpPr/>
            <p:nvPr/>
          </p:nvSpPr>
          <p:spPr>
            <a:xfrm>
              <a:off x="4238280" y="1471680"/>
              <a:ext cx="884520" cy="58428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84320" y="2205000"/>
            <a:ext cx="901044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9"/>
          <p:cNvGrpSpPr/>
          <p:nvPr/>
        </p:nvGrpSpPr>
        <p:grpSpPr>
          <a:xfrm>
            <a:off x="611280" y="392040"/>
            <a:ext cx="8011800" cy="1663920"/>
            <a:chOff x="611280" y="392040"/>
            <a:chExt cx="8011800" cy="1663920"/>
          </a:xfrm>
        </p:grpSpPr>
        <p:sp>
          <p:nvSpPr>
            <p:cNvPr id="288" name="AutoShape 8"/>
            <p:cNvSpPr/>
            <p:nvPr/>
          </p:nvSpPr>
          <p:spPr>
            <a:xfrm>
              <a:off x="611280" y="392040"/>
              <a:ext cx="801180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กรอกรายละเอียดข้อมูล แล้ว กดปุ่ม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Angsana New"/>
                </a:rPr>
                <a:t>SAVE</a:t>
              </a: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89" name="AutoShape 7"/>
            <p:cNvSpPr/>
            <p:nvPr/>
          </p:nvSpPr>
          <p:spPr>
            <a:xfrm>
              <a:off x="4238280" y="1471680"/>
              <a:ext cx="884520" cy="58428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84320" y="2205000"/>
            <a:ext cx="901044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9"/>
          <p:cNvGrpSpPr/>
          <p:nvPr/>
        </p:nvGrpSpPr>
        <p:grpSpPr>
          <a:xfrm>
            <a:off x="736560" y="333360"/>
            <a:ext cx="7619760" cy="1663200"/>
            <a:chOff x="736560" y="333360"/>
            <a:chExt cx="7619760" cy="1663200"/>
          </a:xfrm>
        </p:grpSpPr>
        <p:sp>
          <p:nvSpPr>
            <p:cNvPr id="248" name="AutoShape 8"/>
            <p:cNvSpPr/>
            <p:nvPr/>
          </p:nvSpPr>
          <p:spPr>
            <a:xfrm>
              <a:off x="736560" y="333360"/>
              <a:ext cx="761976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เข้าไปที่เว็บไซต์ </a:t>
              </a:r>
              <a:r>
                <a:rPr b="1" lang="en-US" sz="3600" spc="-1" strike="noStrike">
                  <a:solidFill>
                    <a:srgbClr val="000000"/>
                  </a:solidFill>
                  <a:latin typeface="Angsana New"/>
                </a:rPr>
                <a:t>  </a:t>
              </a:r>
              <a:r>
                <a:rPr b="1" lang="en-US" sz="5400" spc="-1" strike="noStrike">
                  <a:solidFill>
                    <a:srgbClr val="000066"/>
                  </a:solidFill>
                  <a:latin typeface="Angsana New"/>
                </a:rPr>
                <a:t>www.thaiinvention.net</a:t>
              </a:r>
              <a:endParaRPr b="1" lang="en-US" sz="54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49" name="AutoShape 7"/>
            <p:cNvSpPr/>
            <p:nvPr/>
          </p:nvSpPr>
          <p:spPr>
            <a:xfrm>
              <a:off x="4186080" y="1412640"/>
              <a:ext cx="841320" cy="58392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50" name="Picture 17" descr=""/>
          <p:cNvPicPr/>
          <p:nvPr/>
        </p:nvPicPr>
        <p:blipFill>
          <a:blip r:embed="rId2"/>
          <a:stretch/>
        </p:blipFill>
        <p:spPr>
          <a:xfrm>
            <a:off x="903240" y="2039760"/>
            <a:ext cx="7494480" cy="456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9"/>
          <p:cNvGrpSpPr/>
          <p:nvPr/>
        </p:nvGrpSpPr>
        <p:grpSpPr>
          <a:xfrm>
            <a:off x="736560" y="333360"/>
            <a:ext cx="7619760" cy="1663200"/>
            <a:chOff x="736560" y="333360"/>
            <a:chExt cx="7619760" cy="1663200"/>
          </a:xfrm>
        </p:grpSpPr>
        <p:sp>
          <p:nvSpPr>
            <p:cNvPr id="252" name="AutoShape 8"/>
            <p:cNvSpPr/>
            <p:nvPr/>
          </p:nvSpPr>
          <p:spPr>
            <a:xfrm>
              <a:off x="736560" y="333360"/>
              <a:ext cx="761976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กดเลือกที่ปุ่ม </a:t>
              </a:r>
              <a:r>
                <a:rPr b="1" lang="en-US" sz="5400" spc="-1" strike="noStrike">
                  <a:solidFill>
                    <a:srgbClr val="000066"/>
                  </a:solidFill>
                  <a:latin typeface="Angsana New"/>
                </a:rPr>
                <a:t>Login /Register</a:t>
              </a:r>
              <a:endParaRPr b="1" lang="en-US" sz="54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53" name="AutoShape 7"/>
            <p:cNvSpPr/>
            <p:nvPr/>
          </p:nvSpPr>
          <p:spPr>
            <a:xfrm>
              <a:off x="4186080" y="1412640"/>
              <a:ext cx="841320" cy="58392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736560" y="2101680"/>
            <a:ext cx="7813800" cy="470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9"/>
          <p:cNvGrpSpPr/>
          <p:nvPr/>
        </p:nvGrpSpPr>
        <p:grpSpPr>
          <a:xfrm>
            <a:off x="736560" y="333360"/>
            <a:ext cx="7619760" cy="1663200"/>
            <a:chOff x="736560" y="333360"/>
            <a:chExt cx="7619760" cy="1663200"/>
          </a:xfrm>
        </p:grpSpPr>
        <p:sp>
          <p:nvSpPr>
            <p:cNvPr id="256" name="AutoShape 8"/>
            <p:cNvSpPr/>
            <p:nvPr/>
          </p:nvSpPr>
          <p:spPr>
            <a:xfrm>
              <a:off x="736560" y="333360"/>
              <a:ext cx="761976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กดเลือกที่   </a:t>
              </a:r>
              <a:r>
                <a:rPr b="1" lang="th-TH" sz="5400" spc="-1" strike="noStrike">
                  <a:solidFill>
                    <a:srgbClr val="000066"/>
                  </a:solidFill>
                  <a:latin typeface="Angsana New"/>
                </a:rPr>
                <a:t>ลงทะเบียนนักประดิษฐ์</a:t>
              </a:r>
              <a:endParaRPr b="1" lang="en-US" sz="54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57" name="AutoShape 7"/>
            <p:cNvSpPr/>
            <p:nvPr/>
          </p:nvSpPr>
          <p:spPr>
            <a:xfrm>
              <a:off x="4186080" y="1412640"/>
              <a:ext cx="841320" cy="58392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1047600" y="1996920"/>
            <a:ext cx="7336080" cy="3735720"/>
          </a:xfrm>
          <a:prstGeom prst="rect">
            <a:avLst/>
          </a:prstGeom>
          <a:ln w="0">
            <a:noFill/>
          </a:ln>
        </p:spPr>
      </p:pic>
      <p:sp>
        <p:nvSpPr>
          <p:cNvPr id="259" name="สี่เหลี่ยมผืนผ้ามุมมน 2"/>
          <p:cNvSpPr/>
          <p:nvPr/>
        </p:nvSpPr>
        <p:spPr>
          <a:xfrm>
            <a:off x="736560" y="6021360"/>
            <a:ext cx="7507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iaUPC"/>
              </a:rPr>
              <a:t>* Email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</a:rPr>
              <a:t>ที่ป้อนต้องเป็น</a:t>
            </a:r>
            <a:r>
              <a:rPr b="1" lang="en-US" sz="2800" spc="-1" strike="noStrike">
                <a:solidFill>
                  <a:srgbClr val="000000"/>
                </a:solidFill>
                <a:latin typeface="Frees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FreesiaUPC"/>
              </a:rPr>
              <a:t>Email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</a:rPr>
              <a:t>ที่ต่อได้จริงไม่สามารถลงทะเบียนซ้ำได้</a:t>
            </a:r>
            <a:endParaRPr b="1" lang="en-US" sz="2800" spc="-1" strike="noStrike">
              <a:solidFill>
                <a:srgbClr val="000000"/>
              </a:solidFill>
              <a:latin typeface="FreesiaUPC"/>
            </a:endParaRPr>
          </a:p>
        </p:txBody>
      </p:sp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9"/>
          <p:cNvGrpSpPr/>
          <p:nvPr/>
        </p:nvGrpSpPr>
        <p:grpSpPr>
          <a:xfrm>
            <a:off x="736560" y="333360"/>
            <a:ext cx="7619760" cy="1663200"/>
            <a:chOff x="736560" y="333360"/>
            <a:chExt cx="7619760" cy="1663200"/>
          </a:xfrm>
        </p:grpSpPr>
        <p:sp>
          <p:nvSpPr>
            <p:cNvPr id="261" name="AutoShape 8"/>
            <p:cNvSpPr/>
            <p:nvPr/>
          </p:nvSpPr>
          <p:spPr>
            <a:xfrm>
              <a:off x="736560" y="333360"/>
              <a:ext cx="761976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0066"/>
                  </a:solidFill>
                  <a:latin typeface="Angsana New"/>
                </a:rPr>
                <a:t>ป้อนข้อมูลส่วนตัวและสถานศึกษา</a:t>
              </a:r>
              <a:endParaRPr b="1" lang="en-US" sz="54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62" name="AutoShape 7"/>
            <p:cNvSpPr/>
            <p:nvPr/>
          </p:nvSpPr>
          <p:spPr>
            <a:xfrm>
              <a:off x="4186080" y="1412640"/>
              <a:ext cx="841320" cy="58392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1246320" y="2000160"/>
            <a:ext cx="660060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9"/>
          <p:cNvGrpSpPr/>
          <p:nvPr/>
        </p:nvGrpSpPr>
        <p:grpSpPr>
          <a:xfrm>
            <a:off x="736560" y="333360"/>
            <a:ext cx="7619760" cy="1663200"/>
            <a:chOff x="736560" y="333360"/>
            <a:chExt cx="7619760" cy="1663200"/>
          </a:xfrm>
        </p:grpSpPr>
        <p:sp>
          <p:nvSpPr>
            <p:cNvPr id="265" name="AutoShape 8"/>
            <p:cNvSpPr/>
            <p:nvPr/>
          </p:nvSpPr>
          <p:spPr>
            <a:xfrm>
              <a:off x="736560" y="333360"/>
              <a:ext cx="761976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2d2db9"/>
                  </a:solidFill>
                  <a:latin typeface="Angsana New"/>
                </a:rPr>
                <a:t>ป้อนข้อมูลติดต่อ</a:t>
              </a:r>
              <a:endParaRPr b="1" lang="en-US" sz="40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66" name="AutoShape 7"/>
            <p:cNvSpPr/>
            <p:nvPr/>
          </p:nvSpPr>
          <p:spPr>
            <a:xfrm>
              <a:off x="4186080" y="1412640"/>
              <a:ext cx="841320" cy="58392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1082520" y="1996920"/>
            <a:ext cx="723924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8"/>
          <p:cNvSpPr/>
          <p:nvPr/>
        </p:nvSpPr>
        <p:spPr>
          <a:xfrm>
            <a:off x="736560" y="333360"/>
            <a:ext cx="7620120" cy="106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2d2db9"/>
                </a:solidFill>
                <a:latin typeface="Angsana New"/>
              </a:rPr>
              <a:t>กำหนดรหัสผ่านหลังจากนั้นกดปุ่ม </a:t>
            </a:r>
            <a:r>
              <a:rPr b="1" i="1" lang="en-US" sz="4000" spc="-1" strike="noStrike">
                <a:solidFill>
                  <a:srgbClr val="ff0000"/>
                </a:solidFill>
                <a:latin typeface="Angsana New"/>
              </a:rPr>
              <a:t>CONFIRM</a:t>
            </a:r>
            <a:endParaRPr b="1" lang="en-US" sz="4000" spc="-1" strike="noStrike">
              <a:solidFill>
                <a:srgbClr val="000000"/>
              </a:solidFill>
              <a:latin typeface="FreesiaUPC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1243080" y="1554120"/>
            <a:ext cx="6754680" cy="8504280"/>
          </a:xfrm>
          <a:prstGeom prst="rect">
            <a:avLst/>
          </a:prstGeom>
          <a:ln w="0">
            <a:noFill/>
          </a:ln>
        </p:spPr>
      </p:pic>
      <p:sp>
        <p:nvSpPr>
          <p:cNvPr id="270" name="สี่เหลี่ยมผืนผ้ามุมมน 1"/>
          <p:cNvSpPr/>
          <p:nvPr/>
        </p:nvSpPr>
        <p:spPr>
          <a:xfrm>
            <a:off x="736560" y="6021360"/>
            <a:ext cx="78678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ะบบจะทำการส่งข้อมูลไปยังอีเมล์ที่ท่านป้อนเพื่อทำการยืนยัน</a:t>
            </a:r>
            <a:endParaRPr b="1" lang="en-US" sz="3600" spc="-1" strike="noStrike">
              <a:solidFill>
                <a:srgbClr val="000000"/>
              </a:solidFill>
              <a:latin typeface="FreesiaUPC"/>
            </a:endParaRPr>
          </a:p>
        </p:txBody>
      </p:sp>
    </p:spTree>
  </p:cSld>
  <p:transition spd="med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9"/>
          <p:cNvGrpSpPr/>
          <p:nvPr/>
        </p:nvGrpSpPr>
        <p:grpSpPr>
          <a:xfrm>
            <a:off x="736560" y="333360"/>
            <a:ext cx="7619760" cy="1663200"/>
            <a:chOff x="736560" y="333360"/>
            <a:chExt cx="7619760" cy="1663200"/>
          </a:xfrm>
        </p:grpSpPr>
        <p:sp>
          <p:nvSpPr>
            <p:cNvPr id="272" name="AutoShape 8"/>
            <p:cNvSpPr/>
            <p:nvPr/>
          </p:nvSpPr>
          <p:spPr>
            <a:xfrm>
              <a:off x="736560" y="333360"/>
              <a:ext cx="761976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กดเลือกที่ปุ่ม </a:t>
              </a:r>
              <a:r>
                <a:rPr b="1" lang="en-US" sz="5400" spc="-1" strike="noStrike">
                  <a:solidFill>
                    <a:srgbClr val="000066"/>
                  </a:solidFill>
                  <a:latin typeface="Angsana New"/>
                </a:rPr>
                <a:t>Login </a:t>
              </a: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และกรอกข้อมูลตามที่ลงทะเบียนไว้</a:t>
              </a: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4186080" y="1412640"/>
              <a:ext cx="841320" cy="58392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438200" y="2119320"/>
            <a:ext cx="6337440" cy="447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9"/>
          <p:cNvGrpSpPr/>
          <p:nvPr/>
        </p:nvGrpSpPr>
        <p:grpSpPr>
          <a:xfrm>
            <a:off x="611280" y="392040"/>
            <a:ext cx="8011800" cy="1663920"/>
            <a:chOff x="611280" y="392040"/>
            <a:chExt cx="8011800" cy="1663920"/>
          </a:xfrm>
        </p:grpSpPr>
        <p:sp>
          <p:nvSpPr>
            <p:cNvPr id="276" name="AutoShape 8"/>
            <p:cNvSpPr/>
            <p:nvPr/>
          </p:nvSpPr>
          <p:spPr>
            <a:xfrm>
              <a:off x="611280" y="392040"/>
              <a:ext cx="8011800" cy="10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ngsana New"/>
                </a:rPr>
                <a:t>คลิก เลือกประเภทผลงาน ชื่อผลงาน และกด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Angsana New"/>
                </a:rPr>
                <a:t>OK</a:t>
              </a: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  <p:sp>
          <p:nvSpPr>
            <p:cNvPr id="277" name="AutoShape 7"/>
            <p:cNvSpPr/>
            <p:nvPr/>
          </p:nvSpPr>
          <p:spPr>
            <a:xfrm>
              <a:off x="4238280" y="1471680"/>
              <a:ext cx="884520" cy="584280"/>
            </a:xfrm>
            <a:prstGeom prst="downArrow">
              <a:avLst>
                <a:gd name="adj1" fmla="val 50000"/>
                <a:gd name="adj2" fmla="val 2977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FreesiaUPC"/>
              </a:endParaRPr>
            </a:p>
          </p:txBody>
        </p:sp>
      </p:grpSp>
      <p:pic>
        <p:nvPicPr>
          <p:cNvPr id="278" name="Picture 6" descr=""/>
          <p:cNvPicPr/>
          <p:nvPr/>
        </p:nvPicPr>
        <p:blipFill>
          <a:blip r:embed="rId2"/>
          <a:stretch/>
        </p:blipFill>
        <p:spPr>
          <a:xfrm>
            <a:off x="1258920" y="2081160"/>
            <a:ext cx="7058160" cy="412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0:39:20Z</dcterms:created>
  <dc:creator>Ratanavadee   Nanagara</dc:creator>
  <dc:description/>
  <dc:language>en-US</dc:language>
  <cp:lastModifiedBy>Windows User</cp:lastModifiedBy>
  <cp:lastPrinted>2002-08-19T18:59:11Z</cp:lastPrinted>
  <dcterms:modified xsi:type="dcterms:W3CDTF">2016-11-07T11:20:02Z</dcterms:modified>
  <cp:revision>81</cp:revision>
  <dc:subject/>
  <dc:title>No Slide Title</dc:title>
</cp:coreProperties>
</file>